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79375"/>
        <c:axId val="80896186"/>
      </c:barChart>
      <c:catAx>
        <c:axId val="46179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96186"/>
        <c:crosses val="autoZero"/>
        <c:auto val="1"/>
        <c:lblAlgn val="ctr"/>
        <c:lblOffset val="100"/>
        <c:noMultiLvlLbl val="0"/>
      </c:catAx>
      <c:valAx>
        <c:axId val="80896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79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1A6-38EB-456F-A34F-852424ED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FCF-4ED7-4B7E-8368-2D96F18C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26D-346E-419E-B35C-982BC7AE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8A7-A0ED-44CF-9027-CE62D5D3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E9F-4FD1-4CCA-BFD2-8DF9B6D8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14F-D064-412D-8D06-ADF05C4D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C8A-F04A-4117-B0AA-194C387B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A02-4693-4786-87DD-5F3F697E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0DB-6605-4EFD-AE64-C73C8BAB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162-6CEC-48BD-8F45-FE8232F2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F015-8098-4DEA-A541-EF14D8D7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060-459A-4A0D-8D15-5704348A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E3A3C-6CF8-4AAB-A474-14E082C7E2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