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27838"/>
        <c:axId val="37737347"/>
      </c:barChart>
      <c:catAx>
        <c:axId val="27827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37347"/>
        <c:crosses val="autoZero"/>
        <c:auto val="1"/>
        <c:lblAlgn val="ctr"/>
        <c:lblOffset val="100"/>
        <c:noMultiLvlLbl val="0"/>
      </c:catAx>
      <c:valAx>
        <c:axId val="37737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7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FEF-A05A-4127-AF31-27ACBACB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3CA-D0FE-4529-9D71-55707D85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84A-81DD-49D1-BCFB-EB87C43D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067-7C83-4CCB-9EEB-4D42BB70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DD6-1E56-4BA2-A8E8-18DB704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C30-109A-4824-B488-729371D3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D4B-6FEF-4029-9C5C-78425966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911-1DBD-43C2-9D66-77FD0339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054-8A53-433F-A9F6-CC3C714C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66C-65B0-4E16-AD23-E113F7B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07C-0C25-40B8-BDBC-FE3AB64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C02-FD2F-443E-84CF-51CDD89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2896B-E44A-4445-A3A7-CD0D62D96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