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D723CF-3013-4B95-A15D-3EF23C1C78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B5BE19-D666-4E4F-A91D-1313C568F2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9A7ECC-377C-4359-8C84-BC6BB8EFB3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0D679D-D83C-4518-AEE9-E7EC54CF1D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D4F8CD-2570-4635-AB05-817E6A2F64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A451C3-63C0-41FA-A6A9-29BEF798C9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7110E4-0ECD-498B-87DE-5FDDF2F332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75AE65-9B43-4FBE-8136-4CB8864E37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C9065B-A779-4268-AD52-E32C0E0312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A65D4C-E9D4-475E-A1E2-49249A3860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4264FF-BA3F-480F-8023-9B2958D453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FD86BC-DBCA-4410-8E2F-C2A304340F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3FD4AD-A584-4FA6-B548-2EAB9BB365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67A951-B435-45BD-8CE0-A3A4018C0E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1BBE4B-2B51-4308-BAE6-63EB6B4298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912184-C15A-4282-BEE3-3CBBB49334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6ED0F61-95D1-4691-AFAD-C329AFF6FC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07E548-FA91-4480-A103-C8A94B2FC4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F975B4-8ECF-4F4B-B6C2-5A4B57AA04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A9FCE5-95F5-475F-94B8-68379D0955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A3005F-BE7F-4CB4-84F4-9221125934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12F2ED-44A9-48E7-8FF9-165ACA3B88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B8F6A8-C093-4A7F-AC59-AF61AE263B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101265-B3B0-4A08-88C1-1A719A89EC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64C9C-FC36-4BCA-9319-E84488B5462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7EE7F-5FAB-4E1F-95AD-4121FC8D4A8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61E663F-854C-4D48-B8F9-75C1A15B8B9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5B3CC4C-B9BD-40C7-B4BB-E9192B67FDA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77E793-6D36-4252-8CA1-D7141A6F1AD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70B38B-3135-46A6-9D9A-D8FEC5F7F95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CE418C-5FFD-44E1-A326-4248DA5EBE7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B0AAA0-7124-42D0-B6D2-A3ACB8C4063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D001B1-98F7-4DDB-89D2-DD866CD222B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41A53B-7C24-48B6-BAC2-871F39728735}"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7F8805-6F7C-402C-8DA4-CD388DE0A09D}"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9C3ECC-57A9-4DF0-A08E-09C7E9714454}"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C664DF-3BA0-4749-AD64-256D12C6CBDE}"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FF4B27-3BF0-41AA-B416-99E1EF05AFF4}"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5D6688-1585-4A6E-854A-128F75603992}"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823727-D3F7-4E02-A887-B0A1E6422E3D}"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FA766D-5A5C-4D8C-BF0C-6F8D72B9276E}"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68B9DD-7823-4686-896D-367607981EDF}"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701491-D46D-4CD4-8B5C-1A6DAEE1AA4C}"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0FB042-6F1E-4564-9CEF-295FE9B319A7}"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B6F6D6-5B3D-4AF9-947D-45A8E949623E}"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E05BF8-C73E-42BE-A2DD-0914ACC8E0CD}"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E0A363-A8B7-4118-814D-EC8EA10B2DCE}"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309014-860A-416D-AD98-A92FB6940801}"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E3CA11-143A-4248-B8B6-1340DBF6AF5A}"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3040F0-9443-46E9-A4B3-344A9B4953A4}"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50DD55-7C37-495C-920A-CDD3F25A9D9A}"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AF3283-9AE1-4B1C-BC20-257D3CBE05E3}"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A63FA0-0B7E-4D19-98D1-3581316A13E9}"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12E0F8A-3952-4A0D-A781-74F499DCF62A}"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2794C8-6DA9-4AD8-9385-5851F2A829E5}"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AE2E81-91E8-4D78-933F-E9FBA15768C4}"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DFD853-047A-4793-A291-D2D92B0B1E6C}"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D82AB2-DFD2-4336-AE2F-89FDE11DA107}"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270E9E-FE45-49A0-89D8-B807B0B01277}"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121637-D95E-499E-B1C4-C812EEC1AED6}"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881CF0-4E04-4511-946F-38059382A98F}"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FE1D20-4886-4816-AA46-97D6701092C4}"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7B385A-CB14-49E8-ABFA-AAD218A28704}"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BE4EFB-05D6-4713-8D4F-8589910A4BF0}"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57C52C-CD1E-4B38-AC80-B83D6EBA9392}"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2F282B-40D8-4F59-9C84-E24FFA25A8F8}"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1A38F7-0AD7-41FC-9798-BFD5EEAAA8D5}"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309CED-B951-4AE1-A34D-1119F80C3742}"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DE22EC-C050-4E38-B5DA-35C8B13AEA16}"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DE0777-0D00-4658-8867-58E0DC2AA77B}"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9844D3-B1FC-4C15-A767-0F278342D03F}"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8F079B-EF5B-4AA7-A4F9-7DCA2AC3172A}"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167351-7D76-48EC-87E3-10E9324B2BEA}"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D838AC-E2B3-4C99-9D93-4C49667E1388}"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993DBCC-1E2C-4CA3-99B6-08318C939C1C}"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672A41-9BAB-4F5A-B3DA-A06DE29C0055}"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0E9B72-03D0-4582-BD86-36722186C474}"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6C50B85-A3F4-4EDD-9E4E-B63492B6B8D2}"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48926C-AAD3-41FF-9113-D160F639D486}"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A71D3E-DE9C-4EE2-A9F6-92DD461D8BE3}"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95A03A-4AD5-4C30-A8DD-2F3EAB2DEDB2}"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D4139C-6D36-4E00-9714-53FC458C4342}"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15C16E-26FE-4855-83FA-6ABB6E4038B3}"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EF98A1-CF22-4E3F-B518-97AC48B50F6D}"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48B204-725E-4778-8D89-181577E90B6C}"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45CA5E5-8FCE-4644-8AFA-31B89F1809A6}"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E0302D-6C31-467F-BE92-D5C25CDD039A}"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0BC949-89F4-40D0-BE49-E34498723364}"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85AA96-5CE7-43F0-AE23-760827A76B01}"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509265-64FD-4252-A4ED-958E220B9BC9}"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772371-D8E5-44B4-92B3-A6892B49682F}"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B975F4D-01CB-4787-A83E-CF437DD7C474}"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E91FD2-B156-429A-8EA3-97AA12B6783D}"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B9F9BE-FFA8-4A7C-9A29-6AED8FC7D609}"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73319F-06B4-4EB9-8352-EF827D6730F7}"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274487-531D-4CF7-8607-86789888216F}"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7882C90-EF95-4185-9755-6B4C45864642}"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201571-51A8-449F-84C9-C01BCE743FAF}"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487060-F562-4AF2-98C6-105642E44627}"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19FEA8-503C-4DC7-A525-2FE582C328C0}"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73D954-2701-40F2-A981-2DBE2879ED15}"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1E28F9-9174-4F54-BD14-9C4C8CC469C8}"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5DA837-BA13-4918-8D0A-6FD10C6869E5}"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1C5289D-AEA0-4EC8-A0BD-35E396B06FC1}"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83CA60-FA57-4AC3-9C30-78CB61962183}"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603BA3-5207-4F72-9C41-1DDCCE497D62}"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EEC6AB-DE7D-4CF0-AB48-F7212120D2D8}"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0A286F8-AE76-4B57-A7EB-BB8739922D3A}"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F7C91F-AD2F-413A-A48A-ADEE1AFDD6B0}"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8E115BC-940B-46CC-8E4D-74E4BE675E6D}"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1F5BE4-CBF2-4542-83C7-8E19A6F84F01}"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C398AD-F49F-40FB-BCC5-C04D9801D187}"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804A1B-8AB3-405D-AA97-962D4AE11B24}"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3F7F57-233D-4000-B2AF-E59A085E0AD5}"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EA66DC-4626-4A77-93C9-5488E2A8AD5E}"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5B4FEB-60A4-4EB8-B484-0434D3D4D963}"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87E5F6-49CF-40B1-AADC-8E722042C206}"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2D689C-B13D-40A1-BB4A-6FA18F6EC243}"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FA3E58-D225-48EF-8E96-BE3D4AEC317E}"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3595AF-E437-4F95-B052-EE01A5F70D01}"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282239-0E26-498E-BC0D-EC6A26D3C3EB}"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1FAD49-52D1-47FC-8DC2-C5F99C94C583}"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66AAFB-C9E7-4128-9CB4-92DFF7CD782F}"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B61A2A-D6EE-478D-920F-24D6A2637F97}"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54E4C4-B0B6-4A71-80DE-F9205333CF2A}"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65AE1AA-DFFB-4A97-8F1C-631C86350947}"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684925-6853-4F21-926A-6AC4ACE8ADEA}"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B244EE-C4C1-477F-B76A-400901C4E176}"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2F10E8-4513-45C7-A1EA-777467D02C98}"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EDC2BB-6301-495C-B8F9-449A7F0A55E8}"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21C99E-5B08-4997-A613-1D17F127E68D}"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E52222-0712-4A57-8A06-142E75A5BE9C}"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54B747-4526-4DC2-AE95-ACA74AFED1AB}"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41F18F-DE11-42AE-AA4D-F1842F20A6EA}"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1D141F-9243-424D-96F4-0D6A8FEA4CA0}"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5688EB-16A7-4DB1-9E2B-B552B0CFFD8A}"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955638-875C-4B36-879B-FBB5FF42D4F0}"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1D1216-0E33-4946-B00C-1D5DF507225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10A1B4-BEF2-4A8D-A9BA-4462C5784D45}"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AE8B1D-9468-4D5C-BC07-5F09C06CCF69}"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AEF000-D37B-42C7-9653-4BC21EF4AF12}"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F378C0-9A08-40CB-97E5-CA1FF59C5AAC}"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7D6A64-9547-4982-90AA-418A09691EFB}"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C86D60-954E-4EAD-A2E8-75BAD532D973}"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A4D96D-5B27-47EE-91CE-A98DB2685397}"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58EB5A-5B83-4752-B615-28F0DD005784}"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6CBB14-BB72-4C64-A6D4-B3967AFE4C77}"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43B023-C276-472C-8065-20279042B6C3}"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711420-2B04-4A34-B2F4-579A38F8170C}"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6173E3-45ED-44CA-8420-86C459C56736}"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C43C54-F7D7-4AB2-9E78-1CDCD456EEBE}"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CE5DA6-5069-43FB-8C28-65DF942CC85D}"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035CAE-4C87-4FEB-8C2F-4F1737C15226}"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9F86B7A-8C82-4FF4-A3A7-FB6C3C0F61DB}"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A82D7A-A3AD-4440-8C8E-A1E7C8E886C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D72878-1D37-4B03-8AB5-9DB3870D4FC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78E642-2F62-4FC7-835C-FB207DFDAAB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9EB5BF-FE75-4664-A902-F63AB71B4F9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F95D0A-D148-4BF5-A588-448113D4BA7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21AACA-8E99-401A-B0CB-E063B474C93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B25FAAF-86DD-42C6-A278-41F67F272E2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89419F-3470-44C7-B904-10B3E755598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C09051-FE43-4FE1-9EB2-58C6B856D3B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677F8A-96B1-4A0D-8FF8-BE2A2190E5D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211A3F-70A8-4A21-B441-A75DFCEAF92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C3304C-0D29-42BB-BF2F-615EFAD66FB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889B6D-C97B-4104-AF87-CC0A02F0B7E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525530-B8EA-4DC4-B7B8-5621D435E94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6B6763-2576-45B2-8B74-8AF5F26763B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4AB79E-0D1D-409A-9E44-A9047914C1E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E01550-ECAC-4CBE-B2E5-AA85900050A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1CCE43-E889-4AB3-B6F8-DE2A89BE38F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0F7B2D-B664-4D67-87C6-A82860D789D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B64FD9-5CEF-4E3F-8F23-58D2F86AE16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19EED4-A39F-4AA9-AAE3-B7AE680806A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569E84-91CB-4587-8E8B-514FC15B277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C0DAEA-74E7-471D-B7AB-0672C7B67AD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00D15A-1D13-4D54-9432-CEC45BB548A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08F3EE-FB9D-47A4-8CDB-A0BA86C0442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1E554E-BBEF-4900-93EB-5DEE97424D0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E66869-B47C-4D44-ADBA-D0047552DE3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2C0144-EB5B-4E6B-9915-03E343095BB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859C6F-FF6B-45EE-8302-44D2D259570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985743-3196-49F3-B348-22B065F79D2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63A5E6-ECCA-44E0-8D1F-AF1134A20DF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6E105F-8A11-40CD-84AE-4F0F9064303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E12779-B7A9-4B9F-B533-B46388568ED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385F49-8FC0-4553-B08F-B8A7263C709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525EAD-6931-4325-AF90-60870E42221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82D49C-272C-4C92-8011-693E73203C2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5F6C89-D7FE-43D8-B14B-D8A202C2CC4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4491AB-DF4C-498F-B52B-DDB9C6EAAD3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AB83E2-FA5F-4911-9AAC-83568ACA153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408C63-6BF8-4129-BC58-DAA6C43785B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A74CA0-5218-42BA-A714-E4F14F7267D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4688C3-08F0-4BD3-B338-29DE5A0F8F4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AA5EDC-E720-443F-BB2C-6FC271B1C84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B6D152-DB2A-4A71-A4B1-3C4906C7A11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D364E6-D1E5-482E-BE19-AE8CC19C364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5C6851-E578-4E2F-B447-3C451880DE1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CFE0DD-6F59-4D30-B37E-E4204126B75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B95F040-55A4-45BA-ADA1-A6BD3723175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E7A91F-D01D-454D-BCED-07E8E249E35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8087C4-34CD-499B-BCB2-5D642802CA8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D5A561-6A52-4B08-B440-01ACFE88AC6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80C3D0-E399-4DCF-A49F-6EAD52BB90B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738D29-3303-4E60-8EA7-17BE4442C20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7BFEB2-3997-4F86-B3C9-D67E311BC8B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D1893F-B988-4EDA-ABF2-B4B1CD67045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CE55DD-7BD7-4A9E-A284-35CDCEA6B25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5225782-F6A9-4168-AC8C-72FA02AFC2D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E4C97E-A802-47F6-88D6-23F5864AA3B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EAC4F5-69B1-43AB-A76D-689F5C31C94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2FC994-AE12-45E2-B883-18397DC3D6D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F34A8A-C697-4B14-A585-3F2F47EE443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961110-2AC2-439E-8132-CF5707E9748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6A6585-EB2A-417C-BB6C-5360AB580F8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83B5CA-C299-4611-A926-B3AC58858E4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188581-613B-4EB0-96DE-4B69CA3C825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CF0707-34B6-42BE-A357-5C28C725536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63A21F-6152-4088-908E-0C59B451318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C3A873-EB8F-4DAB-B76D-50552C94145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A8A954-B629-4DAB-A93F-7AC35BB21B6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19AF09-826F-4F63-A4E0-0862EC46BA6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D170EC-74B9-4759-8E0B-82196D747DF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90E765E-4A5B-42B0-A8EA-1F4A6C1A772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DEE785-AB2E-420F-9B8D-1543AD349C1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785638-93A7-4F23-9E2F-631D53AD51E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00AE41-213B-45A6-B0D3-13A8807123D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2D2E1F-FB07-405B-9217-2BB8B711734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D04B28-4E63-4706-A7FA-EFD4B43ACF8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D8931D-E11B-4399-8E44-37E2FA94EE7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86432E-01AF-4272-A086-C85C7D3D261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328E96-5883-47C0-BCE4-74FBE3DA2B2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AF178D-363D-46C8-9FB1-3ADBD54CF0C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E20DF8-4D2C-4074-86C0-DEAA7C9EF0B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501EE0-AA0E-4A8C-90DE-3FDEE5218D4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CC8BF7-CD43-4331-90F6-01116F56249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6891E9-4438-4337-AB5E-9AC144F71F2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