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5155"/>
        <c:axId val="54183116"/>
      </c:barChart>
      <c:catAx>
        <c:axId val="24375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83116"/>
        <c:crosses val="autoZero"/>
        <c:auto val="1"/>
        <c:lblAlgn val="ctr"/>
        <c:lblOffset val="100"/>
        <c:noMultiLvlLbl val="0"/>
      </c:catAx>
      <c:valAx>
        <c:axId val="54183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5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D71-D0E7-45A6-9BD3-1931CFD2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077-D836-4C14-99D5-CF96DD9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6A5-FC88-45C2-9543-27FF708D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43B-52F4-4092-80F3-D93E178F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A4E-ECAB-4B30-A07F-B510E8B1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361-EC08-470B-B94B-6D7AAA9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0FB-0A66-4696-8835-BF59659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68E-A5F7-4138-8C35-2BCFD72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055-2C59-4B23-A1B1-F452283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D73-135F-4188-A4FB-F88AF31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D2E-D3D2-4078-B81E-87A0D20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5EE-BB90-47D7-9FB2-58E208C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B6B3-94D8-4789-9E19-AB408A377C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