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22561"/>
        <c:axId val="59603044"/>
      </c:barChart>
      <c:catAx>
        <c:axId val="17222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03044"/>
        <c:crosses val="autoZero"/>
        <c:auto val="1"/>
        <c:lblAlgn val="ctr"/>
        <c:lblOffset val="100"/>
        <c:noMultiLvlLbl val="0"/>
      </c:catAx>
      <c:valAx>
        <c:axId val="59603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22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F8A-2085-44A1-A131-22BCD7BA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80F-CBD1-4C08-B1C8-7777461E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46A4-E28D-4C74-B01F-77EC2EBA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3BB-B46A-4FD0-B86F-F009A32A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C5AC-9A8B-417C-BD27-F095EE7B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8E8-6FBE-4996-A86F-3C961DD6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DCD-9F5F-46E5-A04F-58261771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E78F-B246-4AE4-A184-C26B396C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850-9244-4C73-8E52-8C365FEA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1D0-8C24-444A-A12D-DEB26C44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D42-0494-4D71-96DA-E763DA75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2F1-9DD5-4C0B-BC65-882A2BE1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0E704-9F10-4026-A96C-FE8A0809AC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