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51631"/>
        <c:axId val="25377306"/>
      </c:barChart>
      <c:catAx>
        <c:axId val="77951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7306"/>
        <c:crosses val="autoZero"/>
        <c:auto val="1"/>
        <c:lblAlgn val="ctr"/>
        <c:lblOffset val="100"/>
        <c:noMultiLvlLbl val="0"/>
      </c:catAx>
      <c:valAx>
        <c:axId val="25377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1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0B5-7A6B-40CB-84C7-5DAE43A5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FFC-ADBC-411A-A718-5721821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7E1-0822-4914-9700-29301A53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E34-CDE0-46E7-B8F1-1509DFED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842-28E4-4199-B456-9E660282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0E9-80DF-4649-8981-59DF373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535-504B-454C-920C-A8391BE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B99-35AA-4382-A2FE-B0F5C0B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126-42F2-40C8-9147-6DB9EC7C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9B8-5A74-446E-AA37-D47A666C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09E-CB9B-4BBC-97AA-7B3029E6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DE6-C5B2-45A0-9586-547CA24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E0960-BCA5-4993-8FFD-D92CDE94C3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