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03051"/>
        <c:axId val="71202845"/>
      </c:barChart>
      <c:catAx>
        <c:axId val="60103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02845"/>
        <c:crosses val="autoZero"/>
        <c:auto val="1"/>
        <c:lblAlgn val="ctr"/>
        <c:lblOffset val="100"/>
        <c:noMultiLvlLbl val="0"/>
      </c:catAx>
      <c:valAx>
        <c:axId val="71202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03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B8C-B131-4E26-8C0B-B7F5AE11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725-1B35-4D0A-B042-D24D2D28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17A-90A7-4475-A11D-7E073E97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5E3-73FC-4107-934D-99665933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8F3-EC49-48B7-8AB7-160820C4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79D-FCD7-4D83-A333-1168F6E6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A5F-6C42-410F-AA93-EDA0F453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2F7-5FB5-4D14-BC23-32142737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929-2B46-4CB5-9302-8EF6AC5D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B4F-AE3B-4C86-AFE2-1D1B0F4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C65-1100-46D4-977F-EB7817AA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BED-4447-4D3D-A7EA-5C0F362B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81E17-4DCE-4AC4-8F5E-6BBD3E1132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