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32574"/>
        <c:axId val="39965774"/>
      </c:barChart>
      <c:catAx>
        <c:axId val="93132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65774"/>
        <c:crosses val="autoZero"/>
        <c:auto val="1"/>
        <c:lblAlgn val="ctr"/>
        <c:lblOffset val="100"/>
        <c:noMultiLvlLbl val="0"/>
      </c:catAx>
      <c:valAx>
        <c:axId val="39965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2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62D-E335-4FCD-BEDA-5F6E9E4B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D48-84C0-4775-B585-307C292A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6CC-2988-4B28-B6AE-9DE7594F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CB0-6790-471F-90D0-3A9D45AF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E2D-346C-4D04-A0C4-54C3FB25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6AD-9D19-42F7-B1A5-34B74387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27C-DD80-454C-81A8-A2E3B43F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3F1-DCA7-465F-BF67-14D26577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F58-8EB8-4617-90F9-B2692A38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DEB-4A23-421E-BB7C-5E1E566D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706-6CD1-48D6-888D-F7C43B0A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92B4-379F-48D9-98B6-13539468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9BE6E-EA8E-4598-B407-C2AC374AE1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