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48321"/>
        <c:axId val="35216021"/>
      </c:barChart>
      <c:catAx>
        <c:axId val="28948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16021"/>
        <c:crosses val="autoZero"/>
        <c:auto val="1"/>
        <c:lblAlgn val="ctr"/>
        <c:lblOffset val="100"/>
        <c:noMultiLvlLbl val="0"/>
      </c:catAx>
      <c:valAx>
        <c:axId val="35216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48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902-EDE1-443C-A0F0-C9F6C674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DD6-F22D-4BB7-9A49-D7156B3F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022-3AFE-4F6D-840C-5D3C03FD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04D-3C1F-4361-848D-2CA664AF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CCA-30B4-4B48-8A01-57516AD2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93D-F2B3-42B2-BAB0-9A66432F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2A2-2D37-4578-8020-5F106C77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30B-3619-46CF-8532-E729B5A4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198-C321-4A2F-9AE1-76687CC6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0FB-7D2B-44C3-B88F-851F1393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62A-F664-4959-8E84-5E65F15A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FCC5-EB6C-47DF-87BB-50959A3A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FF9B4-3C57-494B-9986-02E3E4338A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