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58205"/>
        <c:axId val="81380672"/>
      </c:barChart>
      <c:catAx>
        <c:axId val="74582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80672"/>
        <c:crosses val="autoZero"/>
        <c:auto val="1"/>
        <c:lblAlgn val="ctr"/>
        <c:lblOffset val="100"/>
        <c:noMultiLvlLbl val="0"/>
      </c:catAx>
      <c:valAx>
        <c:axId val="813806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82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DCE9-F6AF-4E7D-B2CF-FF46FDF55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F5B3-FCBD-489F-9A3D-F46D7ABF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4CD9-601A-4447-B474-F23C759E0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453A-0118-45F7-81F3-E7A419328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4F2C-59EE-4360-9961-7F5E4067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2207-95D2-4182-BFA6-63F5DF02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1383-5538-48C6-98EF-AAEF48DF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3F5B-BF07-4F93-8816-C7576855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77D0-CDAC-4B9E-9EBF-39BFB19B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AFDA-B277-4D54-9C6A-7C09EF7A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E770-91FC-4052-B2F6-72828E44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475E-240F-4653-BB4C-4DD4C2A6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77FFB-5155-4F09-8755-86D1A60ADC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