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18387"/>
        <c:axId val="27638212"/>
      </c:barChart>
      <c:catAx>
        <c:axId val="96818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38212"/>
        <c:crosses val="autoZero"/>
        <c:auto val="1"/>
        <c:lblAlgn val="ctr"/>
        <c:lblOffset val="100"/>
        <c:noMultiLvlLbl val="0"/>
      </c:catAx>
      <c:valAx>
        <c:axId val="27638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18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99D-5CE4-4FAA-A894-A2549AEE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92D-56DE-4BD5-8E36-62EA0F08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E00-5208-4AE4-8472-3C2C5C12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9F6-6448-40AA-B288-B88A3B27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81F-0770-4D6A-945B-D726275F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4DC-3DD3-4A25-9CC7-2888C309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B7A-F606-42AA-861B-CBDB5E7A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A1F-C4D8-4329-BAA4-E89A7B46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E7F-615A-4D13-8CF2-DE390DEC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22C-0D6F-41E2-B3E1-A314ECE1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FA0-0DF5-40F6-A6CE-19972C8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C857-3816-4DAD-8E8B-B7A19504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1227F-5667-41D5-BDF1-1B22DA6A6D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