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83302"/>
        <c:axId val="61540590"/>
      </c:barChart>
      <c:catAx>
        <c:axId val="73883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40590"/>
        <c:crosses val="autoZero"/>
        <c:auto val="1"/>
        <c:lblAlgn val="ctr"/>
        <c:lblOffset val="100"/>
        <c:noMultiLvlLbl val="0"/>
      </c:catAx>
      <c:valAx>
        <c:axId val="61540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83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E2D-7354-457F-8BBD-E34443A8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D6B-649E-4D17-99B6-00B055CE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8E1-74C9-453F-BC19-BCD41D2E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817-A753-4F61-B117-22ED8AC4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65F-5965-4891-89C2-3E592E4D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77A-F491-49A9-BAB5-5E5A0846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580-3407-45CC-9F18-3582AE94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3CA5-4A6C-4AD5-AB3A-4AFF489F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3344-DDE0-43F9-B970-50641D8A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B14-56FD-4076-9DB6-31121281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FC6-CE58-44C8-B0F6-873810BA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B0B-91BE-4BBE-A6FF-03EED803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B16CC-A38F-4048-9906-86BCF2A78A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