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71574"/>
        <c:axId val="54159489"/>
      </c:barChart>
      <c:catAx>
        <c:axId val="27871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59489"/>
        <c:crosses val="autoZero"/>
        <c:auto val="1"/>
        <c:lblAlgn val="ctr"/>
        <c:lblOffset val="100"/>
        <c:noMultiLvlLbl val="0"/>
      </c:catAx>
      <c:valAx>
        <c:axId val="54159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1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103-835A-4E39-931C-7C450F88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5EA-A1D6-40E9-B68D-266709F9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AAF-19B8-4CF8-85FF-586B95C6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50D-2439-43CD-9193-75126A91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961-81CC-48E2-8C18-66640BD3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A6F-42A7-4C16-9CA7-121AFE8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911-CFEB-42A8-850B-C92DF1EE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42B-C969-4DD6-AFF1-3A6D9A78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374-7DD6-4911-AF72-C1F771D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311-18A5-4A03-90AC-D24619B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B54-B5E3-4AB1-ADE9-AE29D6E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9C1-E8DD-4F98-ABF8-185FAB3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EF98E-F8E7-432F-8047-B4CBA1EDA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