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72089"/>
        <c:axId val="29332296"/>
      </c:barChart>
      <c:catAx>
        <c:axId val="68472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32296"/>
        <c:crosses val="autoZero"/>
        <c:auto val="1"/>
        <c:lblAlgn val="ctr"/>
        <c:lblOffset val="100"/>
        <c:noMultiLvlLbl val="0"/>
      </c:catAx>
      <c:valAx>
        <c:axId val="29332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72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5D4-2621-43BB-9252-CC142FF0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401-6521-4860-A588-95FAF65D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BE9-D5D0-461E-A14F-B4D8A4F4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04B-B018-4A9C-9496-8C96D36C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EB7-7F31-4627-AE5E-19C2B1C2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34D-2D0F-4583-89F1-366C434E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583-0A7F-4CB5-856C-33ABD880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44B-5D02-4200-9D1D-CA9DBC0E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3D2-D6B2-43BF-BE80-3594647C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F2B-4AE0-48F7-BA12-12C2E733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2AC-9445-4815-9AEA-EF5EA1CD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D4B-41B1-41AE-B6C0-A47B59C9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86EDE-B7E9-403B-8252-65DACCC49C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