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10255"/>
        <c:axId val="49668153"/>
      </c:barChart>
      <c:catAx>
        <c:axId val="99310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68153"/>
        <c:crosses val="autoZero"/>
        <c:auto val="1"/>
        <c:lblAlgn val="ctr"/>
        <c:lblOffset val="100"/>
        <c:noMultiLvlLbl val="0"/>
      </c:catAx>
      <c:valAx>
        <c:axId val="49668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10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E42-D46C-4F75-8F75-07929956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0BD-F906-42A3-9D48-5F483F53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BCC-0817-4FF4-A72C-968B7CE3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605-8026-40AF-AC3A-B5BC8B33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62E-D553-49C4-A38A-14E7C8E5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33C-057E-4D6B-B58A-9906F540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3CD-AB65-4D19-BFD3-7AE00D4E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243-E968-495C-8072-E98E5547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66F-8FCF-4D15-94F3-03B2824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A6B-168E-48EC-8F39-F830CBD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6A4-F6C2-490D-8C98-24AF879B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F9B-39A3-425F-B984-1EB458B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49E3B-98E9-4218-8817-6A785FE30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