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1794"/>
        <c:axId val="10274332"/>
      </c:barChart>
      <c:catAx>
        <c:axId val="3491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74332"/>
        <c:crosses val="autoZero"/>
        <c:auto val="1"/>
        <c:lblAlgn val="ctr"/>
        <c:lblOffset val="100"/>
        <c:noMultiLvlLbl val="0"/>
      </c:catAx>
      <c:valAx>
        <c:axId val="10274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1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35A-9020-4897-9C02-FEF2C951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A09-D0DC-4BD6-9076-C9BA68FC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43B-E5C4-4B33-B9E6-95D774C6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C20-3FE0-47E2-A30A-BB54009D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98B-FC25-46EC-B04D-AC8C7BE9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4BA-46F6-4F70-8CAE-8C9DEC47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555-B487-48E3-8C55-133BED1D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8DA-A5C8-4CED-8BF3-2424FF6C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B36-ABD2-4884-BB9F-E79B2720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3E2-9FF1-43D7-A3EE-1721688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052-6815-4467-85DA-D93573BF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17B-7DAD-49C5-B6B3-19CF60C7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1772D-1D24-4782-9E51-D037E66FAD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