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74003"/>
        <c:axId val="91011894"/>
      </c:barChart>
      <c:catAx>
        <c:axId val="29074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11894"/>
        <c:crosses val="autoZero"/>
        <c:auto val="1"/>
        <c:lblAlgn val="ctr"/>
        <c:lblOffset val="100"/>
        <c:noMultiLvlLbl val="0"/>
      </c:catAx>
      <c:valAx>
        <c:axId val="91011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74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68C-E51F-454D-8E03-D91CEC9F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D37D-52FC-4398-AD89-977F5657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D49A-0292-4666-8A69-5FF332F2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D25F-0684-46A1-90F1-333BF4EF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75C2-9FEB-40B7-87D2-66AF0B4D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A4EC-9F2B-44AF-BD7E-49939C2F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62EA-034D-42C4-958F-7D21FDB7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3721-3634-470E-91BD-3A28D31E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F2C4-38CC-453B-8FDD-5E1A4DEA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71D-A164-49D0-B4BD-72CB0BC9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05E-7ADD-4110-81EA-1BC8EA22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301-4F88-4B55-B40F-999A3A60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890F9-3E93-450C-9ADD-D49BBE977D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