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72833"/>
        <c:axId val="19163116"/>
      </c:barChart>
      <c:catAx>
        <c:axId val="91572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63116"/>
        <c:crosses val="autoZero"/>
        <c:auto val="1"/>
        <c:lblAlgn val="ctr"/>
        <c:lblOffset val="100"/>
        <c:noMultiLvlLbl val="0"/>
      </c:catAx>
      <c:valAx>
        <c:axId val="19163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72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056-5BF1-43C3-BDD1-42B33BD4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72F5-4F1E-45A5-B4B4-321EC553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9F1-5632-4F67-9627-EBE04283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E1E-B9C1-4895-B073-6E02F9CA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852-50A3-4B62-B2DF-0E0F48A3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FA5-00A4-4B2A-9109-B85A675F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13A-EE11-46A8-A346-CE315912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E96-93C5-480E-B334-70C41E6F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08E-4506-4E75-9D15-E905245C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237-1986-48ED-9FEF-5224C3A6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CBA-14D3-4B92-8ED1-C53F10B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8F3-855C-441A-A9F6-D778F64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ACEB4-76E5-4AEF-AA9C-CD8B7A0EBE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