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29818"/>
        <c:axId val="12345473"/>
      </c:barChart>
      <c:catAx>
        <c:axId val="52229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45473"/>
        <c:crosses val="autoZero"/>
        <c:auto val="1"/>
        <c:lblAlgn val="ctr"/>
        <c:lblOffset val="100"/>
        <c:noMultiLvlLbl val="0"/>
      </c:catAx>
      <c:valAx>
        <c:axId val="12345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29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0B1-45CA-4935-B63C-9902C3B2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170-1ADE-431A-A091-B0057827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D51-ECEC-4387-B4EF-33DAC85C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AF2-B352-4F64-B12C-362CF3CC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BC5-7F9E-4497-8120-3EC74AA9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F80-8A86-4496-85F9-6C2715EC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FD0-6853-403B-9C31-2BE56056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8EA-7058-4939-A43D-F30EA63F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BE3-350D-4E6C-BD9B-33AC7CCC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A11-2355-439C-A5F8-0FB0C0D4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CEB-22E5-43F2-B61F-C4768DF3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764-BB08-403E-832E-6F1E528E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0B7E3-5DAD-4565-A86E-E8783CFB22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