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59094"/>
        <c:axId val="50001818"/>
      </c:barChart>
      <c:catAx>
        <c:axId val="19059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01818"/>
        <c:crosses val="autoZero"/>
        <c:auto val="1"/>
        <c:lblAlgn val="ctr"/>
        <c:lblOffset val="100"/>
        <c:noMultiLvlLbl val="0"/>
      </c:catAx>
      <c:valAx>
        <c:axId val="50001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59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A9A-31FE-45D3-B7F8-E0787CB9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8F5-E2D2-4041-ADB6-4F9794ED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CF1-D763-4CFA-BF31-14459E7B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5EB-8C68-46D6-9F45-D0457608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8F3-5704-4F80-8784-544E9B4D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965-EF17-4CA9-AD03-462EE8EA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F4A-0B97-4F32-9EF9-6EB1CE4D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D9F-E4E7-432C-A819-5587DC03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CE8-8BB4-40BC-9E8A-6B5DA3A4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7FC-E2BE-45E3-BC87-6DE48C14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E80-CF8B-4254-87CF-44FF5B41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20F-A29E-474A-9762-9A5B2BE4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1ABF8-7014-42C3-9B61-165713DD3F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