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18403"/>
        <c:axId val="5728411"/>
      </c:barChart>
      <c:catAx>
        <c:axId val="71918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8411"/>
        <c:crosses val="autoZero"/>
        <c:auto val="1"/>
        <c:lblAlgn val="ctr"/>
        <c:lblOffset val="100"/>
        <c:noMultiLvlLbl val="0"/>
      </c:catAx>
      <c:valAx>
        <c:axId val="5728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18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DDE-5B4B-4CE7-8938-CB993D4F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CF4-A185-4161-B57E-EBF5C6A2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4C7-602B-43C6-A937-28EF5157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C4A-069E-43F9-AE29-4EE1BE2E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4A1-3633-404C-BDAF-CB61C74A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3C0-6708-4E4C-819F-8DA257A8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2F8-5D48-4D16-A757-99B66A65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773-76AC-4505-AB62-5C480A72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575-F3A7-4449-9592-0100DD72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BBB-8D6F-4BC6-AC2C-5B8B1040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EC3-2437-4E25-BA26-927A71B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34F-A446-4A90-8CC3-567458E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5CABB-7925-458A-9F47-80A1DB2212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