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86932"/>
        <c:axId val="4155868"/>
      </c:barChart>
      <c:catAx>
        <c:axId val="98386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5868"/>
        <c:crosses val="autoZero"/>
        <c:auto val="1"/>
        <c:lblAlgn val="ctr"/>
        <c:lblOffset val="100"/>
        <c:noMultiLvlLbl val="0"/>
      </c:catAx>
      <c:valAx>
        <c:axId val="4155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86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592-C00B-43C5-BCC2-F2643C79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9DF-9226-4A17-901F-1D7E0DA8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CC6-4D4E-41B5-AD31-05ADA32A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235-0982-4D44-A203-24949D2E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AA5-615D-4F76-B784-519FA8DC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D7A-2E2F-4EB5-BA4A-4F973643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808-452A-4C3A-B2C9-0C808708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B68-B0E6-4C40-B008-44BD61E7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A65-A26E-435C-9A72-25D554FD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CB7-89B5-47EA-B379-B43485C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52B-F093-4BB5-870B-1257771C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E64-9EBC-4AC0-9749-E61BF50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6A868-BD0D-4D31-940A-DD8F3A0A3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