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66247"/>
        <c:axId val="98955948"/>
      </c:barChart>
      <c:catAx>
        <c:axId val="40866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55948"/>
        <c:crosses val="autoZero"/>
        <c:auto val="1"/>
        <c:lblAlgn val="ctr"/>
        <c:lblOffset val="100"/>
        <c:noMultiLvlLbl val="0"/>
      </c:catAx>
      <c:valAx>
        <c:axId val="98955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66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54E-A3FC-41A8-8432-B41FBECA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AE7-7151-433B-B308-186B5CB3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B4C-1280-47F8-816C-1E50244C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A4C-3766-451F-BC4E-458129F9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B42-72B6-436B-BDF1-B8F0550F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421-32BE-4BE8-B2F1-D263A95C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DAA-E32B-4712-B913-C4DDF58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250-FE10-495E-A090-59362E7A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A55-01B4-4208-B978-220F9FFD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7BB-A1B3-4F8E-961A-8207E65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B9A-A79A-47BF-9AC7-5D03993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860-C14E-4020-8437-5D5C47D4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FF1C4-A8E8-48AB-9585-0A3599EE46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