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1374"/>
        <c:axId val="64573007"/>
      </c:barChart>
      <c:catAx>
        <c:axId val="9709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3007"/>
        <c:crosses val="autoZero"/>
        <c:auto val="1"/>
        <c:lblAlgn val="ctr"/>
        <c:lblOffset val="100"/>
        <c:noMultiLvlLbl val="0"/>
      </c:catAx>
      <c:valAx>
        <c:axId val="64573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891-2E59-4BE1-BA21-9D44BA1A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F52-2151-4305-A6A9-3253508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AF7-650C-4ADD-B4B4-E48399AA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CC0-A138-45DC-B6EE-45F04768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BF5-C816-4F28-90A1-A4407BE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0B1-C2D6-4C11-8212-58CF521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46E-DA21-4A96-A822-370BDC2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04C-A7EC-4389-A243-6A6CAE1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1A-9086-4EBD-9B8F-C2A7436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33A-F4A9-476D-A0D7-4256E8B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381-4B9F-4BF0-9313-DFE832E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CE1-3575-467F-B962-F99B1FB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F6E7-18A4-4C6C-BA9D-72CC78D99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