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1374"/>
        <c:axId val="38266528"/>
      </c:barChart>
      <c:catAx>
        <c:axId val="2831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66528"/>
        <c:crosses val="autoZero"/>
        <c:auto val="1"/>
        <c:lblAlgn val="ctr"/>
        <c:lblOffset val="100"/>
        <c:noMultiLvlLbl val="0"/>
      </c:catAx>
      <c:valAx>
        <c:axId val="38266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1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242-00C2-4A5C-AE6A-FBB1A5F0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7D1-CBE0-4069-A6CC-D38F575A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6CB-ECF8-4D06-B229-F8F4F6DD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A2F-0719-4BCC-9CBC-66FCB71C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A06-980C-4627-80B1-17DD0038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6B5-1203-4D8A-A7ED-94C81AF6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0CA-048E-45BD-A5FF-9747C941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CC4-D139-4C7C-80F0-084E849D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B76-6701-4C24-A380-0B812D0C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57E-D3DB-4503-8448-8DE6C765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DB0-A8FE-4CDB-8B7E-654FF9E2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3F5-2529-464C-A6DB-C14D24A1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64363-12B1-4A3C-8CA6-F2600362F3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