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75476"/>
        <c:axId val="29027087"/>
      </c:barChart>
      <c:catAx>
        <c:axId val="20575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27087"/>
        <c:crosses val="autoZero"/>
        <c:auto val="1"/>
        <c:lblAlgn val="ctr"/>
        <c:lblOffset val="100"/>
        <c:noMultiLvlLbl val="0"/>
      </c:catAx>
      <c:valAx>
        <c:axId val="29027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75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E6B-1CDF-4341-9222-455B4E69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030-086D-40C6-B669-F727E8C3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56E-081C-4279-B1E0-B087FF65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B54-8830-4CCB-BDE0-85258955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D01-1644-492A-94D0-7A2B5E3F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158-5EE5-4164-8CB4-3FBCC8A9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2EE-666B-49EA-911C-5B7E7969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A3B-74DF-4A46-BE74-8CE038F5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017-2D3A-4082-9D0F-9C1F2814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9A4-0D64-4EAE-8500-43A5AC1E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7D9-279F-48E2-94FE-F86CA733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94B-5006-46C9-9F4D-74D3F783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D2956-69DA-4A5F-932D-63A2218AE7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