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30145"/>
        <c:axId val="70993125"/>
      </c:barChart>
      <c:catAx>
        <c:axId val="35130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93125"/>
        <c:crosses val="autoZero"/>
        <c:auto val="1"/>
        <c:lblAlgn val="ctr"/>
        <c:lblOffset val="100"/>
        <c:noMultiLvlLbl val="0"/>
      </c:catAx>
      <c:valAx>
        <c:axId val="70993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0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05A-4680-4A27-B2EC-29E14470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A7A-B9A7-4189-BADA-C5BBCEB9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0B0-C06D-44BF-B32D-B26CC250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E81-FB80-4191-8E7F-FCFC09DC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200-A2A0-4B9A-80D4-C6E943F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500-B491-4009-979D-55A0B03C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8B9-3B9A-4FDB-89D3-FA4F4F3E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AC0-F13D-46FD-9F49-39C20130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EB5-E014-4C0B-AEB2-C2A85E1C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A41-4B05-44AD-ABA5-5F354041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40E-03AA-402F-A5A4-023830BD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7B8-1AA1-4824-8E67-1CD25AFD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F02BC-0794-4DF9-850A-DCD131EED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