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67823"/>
        <c:axId val="35356516"/>
      </c:barChart>
      <c:catAx>
        <c:axId val="64667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56516"/>
        <c:crosses val="autoZero"/>
        <c:auto val="1"/>
        <c:lblAlgn val="ctr"/>
        <c:lblOffset val="100"/>
        <c:noMultiLvlLbl val="0"/>
      </c:catAx>
      <c:valAx>
        <c:axId val="35356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67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012-D3B6-42AD-8447-577498D8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78F-3045-4DC9-8403-C88F1241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9AD-D7BA-4B44-BA16-5C3A7606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0E8-3BB3-48E4-969E-A7D8BB5B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69E-CDC7-43A5-B720-ED061E53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F54-5D4A-4F98-9666-27052875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ACE-49B9-4D4D-A281-391D6FC1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0C1-6CAF-4901-896F-4F5049A7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D03-2F08-49B3-8372-EF99F8FC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D31-F516-4BB2-84FD-691DDF11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D64-1AED-4684-BD27-C71AA3C6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A38-ED47-4155-AA3F-49FC3694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8B84F-D926-401E-AC4D-BFFDF1F81D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