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446368"/>
        <c:axId val="19821848"/>
      </c:barChart>
      <c:catAx>
        <c:axId val="594463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21848"/>
        <c:crosses val="autoZero"/>
        <c:auto val="1"/>
        <c:lblAlgn val="ctr"/>
        <c:lblOffset val="100"/>
        <c:noMultiLvlLbl val="0"/>
      </c:catAx>
      <c:valAx>
        <c:axId val="198218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463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612F-627D-4D88-BE6C-441511CF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2B8F-EAD5-49DC-9374-E38FD56F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3314-F91E-49F4-912A-5B4C7340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B700-AB76-470E-BDF6-7F311CA0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0D2A-8271-4033-BB82-E9316652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4AE-E1A1-4F64-AF92-907256A6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E54E-C034-44A6-B579-4341933C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1472-90F1-45F1-91B1-2A4C0472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572A-9F2D-400A-BE48-178927AC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E463-8EDD-4D92-BDC9-1DA2C097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F771-EADB-4490-86F0-BE74C8DC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EEE4-4BDF-479F-AF66-C4799F5B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6E8DD-0977-4718-A29C-3F92423BAF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