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28332"/>
        <c:axId val="57225432"/>
      </c:barChart>
      <c:catAx>
        <c:axId val="22128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25432"/>
        <c:crosses val="autoZero"/>
        <c:auto val="1"/>
        <c:lblAlgn val="ctr"/>
        <c:lblOffset val="100"/>
        <c:noMultiLvlLbl val="0"/>
      </c:catAx>
      <c:valAx>
        <c:axId val="57225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28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E8B-972D-45C8-BB48-C9222E9F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471-882E-4D6F-80E7-E4C49759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88F-DF07-4E0A-BC58-A68EAF87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252-36E2-4191-B270-B3893508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EFD-96DC-4F24-8C0A-0B43494C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C70-98E5-4F03-9290-43283105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2D7-A935-42B4-9239-F820B95F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6CB-A771-4614-83FA-C4549282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33D-42FB-4B31-A5B8-E2BFDC8A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1B6-970F-4301-9290-9995FD7E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8FE-0F37-460D-92C1-300C4A43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2AF-8767-4199-AA87-E577FCB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83507-BF7E-41EA-B70E-10A473226E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