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7191763"/>
        <c:axId val="93496866"/>
      </c:barChart>
      <c:catAx>
        <c:axId val="7719176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496866"/>
        <c:crosses val="autoZero"/>
        <c:auto val="1"/>
        <c:lblAlgn val="ctr"/>
        <c:lblOffset val="100"/>
        <c:noMultiLvlLbl val="0"/>
      </c:catAx>
      <c:valAx>
        <c:axId val="9349686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19176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2EC6-A04C-4F10-A473-62850A042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DD69-6D81-4935-BF95-5901A6CB0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786E-0930-4D50-B1BA-96C84E7E7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26AA-FF68-4E09-A492-A1BC02EDD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A9E8-9E56-4D50-8044-663896BAA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0E86-C9BB-4A2D-94FC-642224DC3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4B0C-003D-4B7B-B5A8-7AFC327C4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5196-5DE2-4AF8-ACAC-93DA54F7B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5400-C892-4273-B592-B429038DF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9BA7-4321-43E9-AC9C-26F16C465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1F1C-78AF-49AE-B7C2-B0EFA8178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537F-51F3-484A-8D36-4DA5146CB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5B912C-6160-4F23-A4EA-4073C699D3B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