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92174"/>
        <c:axId val="27835683"/>
      </c:barChart>
      <c:catAx>
        <c:axId val="47592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35683"/>
        <c:crosses val="autoZero"/>
        <c:auto val="1"/>
        <c:lblAlgn val="ctr"/>
        <c:lblOffset val="100"/>
        <c:noMultiLvlLbl val="0"/>
      </c:catAx>
      <c:valAx>
        <c:axId val="27835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92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25E-ADCF-4DEE-BEBF-F12AD5D5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CE3-49DD-4742-A59F-CA48BB05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A3D-F947-47A8-AEB7-48B9094D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601-D2DD-4042-8BBC-13346EE1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824-75AA-47C9-9D9A-1A874AE1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AAF-2549-465C-8A44-03BD5959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D2E-A043-491B-A4C1-21820676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094-CA11-4F33-A50A-13C8CB79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D75-F412-4CB3-BEB4-AF25D970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B86-A09B-40C6-8F52-AABA4162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FDC-D664-4BE3-A81B-BEA1A706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6D8-FDDC-4A53-88F9-414C92CA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747E8-44C1-4C21-BEDC-968D1687A0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