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231207"/>
        <c:axId val="9599538"/>
      </c:barChart>
      <c:catAx>
        <c:axId val="812312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99538"/>
        <c:crosses val="autoZero"/>
        <c:auto val="1"/>
        <c:lblAlgn val="ctr"/>
        <c:lblOffset val="100"/>
        <c:noMultiLvlLbl val="0"/>
      </c:catAx>
      <c:valAx>
        <c:axId val="95995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2312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7ED6-A021-41BD-A789-AC063585F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0B8C-280E-4B27-811A-761FBC0A8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9CA7-90A5-43A1-A827-F06DE6D8A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FF93-D009-45C1-8232-3DD95E692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9253-A284-4C87-B12D-2FF574244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1389-89C8-427D-A14D-18CEFF5D4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E970-C566-4994-B97D-5B75E64C5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681D-BB96-4AEB-8D49-3A10D453C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2F04-27FA-43C0-89C9-48BA1EB12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152C-7168-4EFB-8D9D-C23B1CCC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FC1D-1F8C-4E20-AAFF-70FD90F2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8AB2-3BA3-4F90-BCB6-D7DABA54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F867D1-BB0E-43AD-9800-705E9A3AD0E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