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49310"/>
        <c:axId val="7824537"/>
      </c:barChart>
      <c:catAx>
        <c:axId val="67349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537"/>
        <c:crosses val="autoZero"/>
        <c:auto val="1"/>
        <c:lblAlgn val="ctr"/>
        <c:lblOffset val="100"/>
        <c:noMultiLvlLbl val="0"/>
      </c:catAx>
      <c:valAx>
        <c:axId val="7824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49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047-66DF-4FCE-B2D2-E3EACF44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FD4-7A50-4024-977A-85C2C36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B5C-CAB0-4E9C-9098-7958C2C0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45D-36D1-425F-99FD-35A0BD54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2E2-B80A-4BE8-84E5-FBCCAC56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034-EBE3-4AE0-A0C8-B1ECE97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411-E3B4-4592-8E42-ABF0663D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1E2-1E8D-4545-9386-C612A2DE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BB-297D-459C-877E-5FC41A6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386-FA5E-4CCE-92E5-1E6239C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3AD-AD68-45A2-95AF-6ED876C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6A-0D12-411E-A991-62D391B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60736-22CF-4890-AC83-267388356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