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71134"/>
        <c:axId val="82434112"/>
      </c:barChart>
      <c:catAx>
        <c:axId val="73771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4112"/>
        <c:crosses val="autoZero"/>
        <c:auto val="1"/>
        <c:lblAlgn val="ctr"/>
        <c:lblOffset val="100"/>
        <c:noMultiLvlLbl val="0"/>
      </c:catAx>
      <c:valAx>
        <c:axId val="82434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1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8C2-F5AD-4946-8307-ADA8109E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13D-C075-4D96-8C14-C25E70A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52B-51EE-4C72-B35F-30AB3AD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AE5-FB68-43DB-9305-9F7869FB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970-25BF-4DE8-A72D-B3DBD51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0EF-E7B1-44C5-9ED3-708CCE7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248-3B41-4616-8E9E-D792C85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9F4-1D98-4E6D-89AB-900B46D9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878-1499-4205-BA80-0AEE22D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77B-39BA-4D49-806A-2F804D2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10B-D2F9-4F78-8581-EC13C54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934-6B50-4FA3-A124-805D32CA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04843-7A73-4DB5-8EE6-B880D0009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