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25683"/>
        <c:axId val="40164835"/>
      </c:barChart>
      <c:catAx>
        <c:axId val="49325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64835"/>
        <c:crosses val="autoZero"/>
        <c:auto val="1"/>
        <c:lblAlgn val="ctr"/>
        <c:lblOffset val="100"/>
        <c:noMultiLvlLbl val="0"/>
      </c:catAx>
      <c:valAx>
        <c:axId val="40164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25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053-6E9C-43BF-ACFC-EA8693F2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3965-5FB1-49A7-840F-AFFD6AB8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815-8DA5-4C2B-9095-778199E0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0C76-0A74-4623-9BA2-EB1F823A4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FD5-E8E4-44C9-8B72-6C030EC6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380-76B4-4F00-960D-F9853D91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E672-43DA-42BF-8EC4-A3BF1ACC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454F-E19F-4127-B4DC-65E59C48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7827-0523-48A2-9AF5-B26B8F1C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297-71C6-4B3F-872D-B672DB18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A7CE-15A9-4A2A-9099-66CA570D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761D-F085-43D6-A45F-0A3E9AE1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9BC11-95D8-4383-BB8D-92B22B595C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