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64077"/>
        <c:axId val="96031318"/>
      </c:barChart>
      <c:catAx>
        <c:axId val="91264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31318"/>
        <c:crosses val="autoZero"/>
        <c:auto val="1"/>
        <c:lblAlgn val="ctr"/>
        <c:lblOffset val="100"/>
        <c:noMultiLvlLbl val="0"/>
      </c:catAx>
      <c:valAx>
        <c:axId val="96031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64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6A2-3492-4266-AADC-6A03E5AF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FCB8-FC3D-4468-B229-F0E81E3A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B79-1D54-4CE2-B560-8DACA5EA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E70-1ED3-4C33-A9B7-6B55A6AB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8B8-76C3-4F37-AD53-EE538B69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911-C5D9-4CB1-89D5-08B87BCD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A06-73AB-4301-93A8-8C912B26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22C-C3BF-48C8-A9BA-332E9D51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1D7-F12F-470A-A4C4-03227F1C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682-E915-4A22-BCBD-1A13C7E0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56B-70C4-4545-AFC5-914B59C2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73D-7DBD-4D69-A564-F1BCE597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6A91B-EFCF-41AB-8E30-5F4DD4093E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