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21310"/>
        <c:axId val="22380474"/>
      </c:barChart>
      <c:catAx>
        <c:axId val="76921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80474"/>
        <c:crosses val="autoZero"/>
        <c:auto val="1"/>
        <c:lblAlgn val="ctr"/>
        <c:lblOffset val="100"/>
        <c:noMultiLvlLbl val="0"/>
      </c:catAx>
      <c:valAx>
        <c:axId val="22380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21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ECE-E9C2-422E-878E-8E192884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9B3-2FE2-434B-9AB4-AD494DC0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93A-DC54-41C8-8DF5-CD415E5E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8AE-A201-4E77-94F3-517C797C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365-0782-4BA9-A24B-3E008822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455-9C5C-4FE4-A1E5-B2EFC6F9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741-B1A4-47D6-9EE7-3676AC3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170-A71D-4FE7-A668-18720C8E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0E1-8E4A-4624-8B05-214D40B6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654-8ECD-4B49-8567-8FF030CB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158-9A0B-4F36-A791-B1AC606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21E-258B-4A20-8132-ED77335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50D29-DDB4-4CB1-B6BB-0FFB85732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