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557133"/>
        <c:axId val="6042595"/>
      </c:barChart>
      <c:catAx>
        <c:axId val="255571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2595"/>
        <c:crosses val="autoZero"/>
        <c:auto val="1"/>
        <c:lblAlgn val="ctr"/>
        <c:lblOffset val="100"/>
        <c:noMultiLvlLbl val="0"/>
      </c:catAx>
      <c:valAx>
        <c:axId val="60425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571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F6B2-8EE8-438D-B9D9-41AD4E669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DFBA-1E85-4397-8427-78C29DB1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3A39-096C-4743-95C8-3B7FCA19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7DFD-DC03-4547-9C26-C54B10BD5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986F-B6A9-4F45-8528-EC0D12B8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9A7F-6DC2-4A5D-9411-348B0509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FE04-27CA-4673-950E-F13548DC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8C6A-1565-4DEE-B603-0282C243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F0FB-C794-42B7-87CE-16EE8661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1029-4391-4F51-A78E-4B655C8F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A4EF-814B-4B27-A038-7ED5D6FE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3B99-24B2-46BE-B155-F3C3E2BC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FA343-B38A-4301-A09F-7B308EA1FF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