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29756"/>
        <c:axId val="59970407"/>
      </c:barChart>
      <c:catAx>
        <c:axId val="92829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70407"/>
        <c:crosses val="autoZero"/>
        <c:auto val="1"/>
        <c:lblAlgn val="ctr"/>
        <c:lblOffset val="100"/>
        <c:noMultiLvlLbl val="0"/>
      </c:catAx>
      <c:valAx>
        <c:axId val="59970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29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4BB-7759-4AB6-817C-54175C70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5FC-D9F8-40CA-AB5A-EE5D760B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63F-4A6A-4221-AB39-7CEFF4F1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C456-3646-407C-8126-D8D848D5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4B4-E645-494E-9894-45BE3974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1CE-BE35-460F-A0D4-4E7ECED5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934-46AF-4562-B775-3CC87454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D44-1F28-4C0E-9895-BBFEFD37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030-E443-4215-BC61-8BEB5A3C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E66-FEDA-4908-A5B1-C067F3F7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6CC-6DD8-467D-B717-3517F4FA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E6D-4F06-40D3-A7A2-0C339448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36330-8CB2-4E2B-B883-CEC7DCD31E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