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15C0F9-5247-42FE-B32E-56D5BBD8C6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47E215-17C7-40DB-827C-74C617715D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678C98-108F-4D53-B884-1D39122432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4DDF00-4E73-4E32-800B-7E98D3271F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6078AA-5571-4363-82EC-FE54B8216A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DD0574-9180-402B-A5B8-7ABB0B89D2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5034D7-7440-4993-B7CB-C0074F45FE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376BDC-C035-46B0-9B38-AB6363B934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6479F0-16A2-4519-9DEE-0277D02843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A0C660-E33B-4759-A860-B37BE16AAE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CA2710-1A2C-415F-9673-E900FBEFE4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35F3C4-8FA0-4B59-89C4-2EE65A6A09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89A716-CB5C-49DF-B084-3BF516152D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1851AF-DE60-4906-9CC4-E21CD7B8BD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F4100E-0A45-4373-91E2-F668FCEDA4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5B418B-078E-4AC8-AFD8-A9393875959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1389E1-F59B-47F5-90C8-0D9D81F96E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E79E35-FB49-4465-9393-65104F5939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299E2C-7FAC-452D-9819-8FA6E97638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BB31E2-C5FF-47BF-8F77-6E33A25BBD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9B5B4E-C410-4D9F-B42A-27A64B30D0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10C800-D09A-441F-8FA9-BFC8CD8052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4E8DEE-AE3C-4910-9B36-99FC8DDCFE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8B0D30-BD1B-4484-A1E8-3CC32EE39E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3273E-3DD4-4720-806E-8F80E089F83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BD1C5-5CAA-4507-A038-181D3FB8F1B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4AB695C-4D97-4A6F-A1F9-2E03BC44083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327BFF7-3BCB-4C80-A214-EB7004B5EBD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17AC94-534E-4889-8474-90E5929903D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FD65D5-2FA0-48DC-8BF2-525AE4F3CB3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16C3C2-68A4-4115-839F-30B56BD64D1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936010-933C-465B-A4C7-D01118C2D26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21F054-0294-4BF5-9185-44A46F0ED5C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ECDBCB-CD12-49DA-903F-DED8661E7BAB}"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8AC05D-B111-4553-83F0-82243719D5FC}"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DA77A5-484B-4C86-A3FF-F6E81661609B}"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1313E9-33E8-44F3-9EF0-2469BE84E527}"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07BB1E-9EDB-47BE-B987-A254629FDE91}"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F8EDB5-2CC1-41CB-951C-8C457CF350C0}"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B733F3-1729-4F16-A9CF-5C015B765E49}"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BA198F-FB83-430D-B547-156CD691198E}"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97C689-5C8B-4481-A012-1659AE217C89}"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0D2A78-5C76-42FE-8555-EE9CCE97869F}"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5CEAE0-10AA-41CC-BD7E-A555E31F408E}"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A757FC-4B85-4A4A-B9F3-F0936FBA0A74}"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0D5BD4-29FA-4C76-8760-EA60527AE76D}"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7140FE-B63B-4B29-B2B0-EB381D4A1860}"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0D862A-CFF7-4964-8BCC-6B2F30DA57C4}"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B70C9D-77D9-4EA4-BD29-B504EFE02CE9}"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386B19-5C37-42AB-8A97-4C75EAB5EF6B}"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6E538F-FD67-4A48-B85D-54181BCC3BE6}"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3EF3A7-73C3-46D1-B141-374F3D27CD3D}"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FDA807-91A4-4CD8-B3C4-664898893F8A}"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3AF7D36-6E2F-48B8-8A81-3F61B48683D9}"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43A679-3155-4DC0-83C9-8B361E993A6B}"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5E1FDC-F69D-4DC2-8F37-50374E06A53B}"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CE7B4E-82B2-425E-916E-0E3DEB4E015E}"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C79683-698B-4BDF-8D45-2479C42CF651}"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17C113-FDD8-434F-AFA5-77C1D02EDC4B}"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0DD643-4BEF-4991-BFCB-E1CE9D4AA7F7}"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953E00-A877-4B5E-9DB1-32FE9CD5BCDF}"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2CD429-ABA8-4F67-93F8-9617500388FD}"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C4CFBC-CA79-4F0F-9CD3-F58EEB02C18B}"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E5780C-6717-4D3B-8F27-649D82323258}"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D6FBF5-C73A-4823-9A20-A63FAF9ECB6C}"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400EEB-D1AA-414C-928C-83BADE0147D8}"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E569DA-5FAE-4CBE-AA27-A86B11E8BE87}"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7E1F05-B3C4-44C8-932A-401613B9691A}"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2CD682-836B-4387-ABF9-91F45351DE67}"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FC92F0-B525-4C36-86B9-E989791245DF}"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9AE0E8-8DD6-497F-AEB7-74BD2F42B07F}"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E0883E-85C4-4D44-B12D-5F2D6FC98D62}"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B93001-89C1-4C1D-8EF6-993CF2DFFDA9}"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AF86E4-F239-4B20-9E5A-02A385D866C7}"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4A68723-DAA2-43DD-B841-2B87AF58BD4B}"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7E6CF1-D5CE-49A7-99D0-B155C6F3C27A}"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74D6F6-51A1-4B73-B2C0-76054F6D8840}"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F11FAE6-231A-413A-8602-061DAA52479D}"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10E251-7BDB-4E98-9DAD-465EEEFEAE5F}"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4C4476-43A5-4589-93B4-FEE83AF27670}"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A7176B-64E5-46FD-A282-EB193485B3AC}"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691B03-7FDE-40F5-A905-887A578456C7}"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9E7C7F-2AA7-43F8-AF8C-23B41616895D}"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F84002-D325-40ED-810E-508F85FE30B7}"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1EA850-7386-4B81-9D87-F23D7DA234C0}"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96E3AAE-33B5-4AE6-AA8D-7E4F4BC03C2D}"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989610-5A7A-4F19-8DAB-85D27D0BFA7A}"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6A7301-A995-496D-8296-CF7959E49042}"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EA93B5-FD4A-4F85-9C7D-C0945D53679F}"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057989-363B-4F3D-A71B-03903C121EA6}"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CC42C1-A62E-4FE3-B735-26A5B8016076}"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EB8731B-61BD-42B1-9A6B-6AF9A325B24A}"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D75894-FE78-433E-B7BC-A9E0A7066638}"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143D1F-23C9-4749-B08D-47825EC678B8}"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C49B54-DB9A-442F-BCED-A65FB87DF038}"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26273A-8CAD-4F1D-B993-0264CBB5E180}"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C035BB6-6556-4636-A7E0-42073DD0A7A6}"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7D3F28-0CF4-4900-9504-DB51BD83634A}"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F169F1-1D6D-466F-AC1E-83682DAC8B4B}"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AC7C4D-8748-42B3-96D9-D31234185ED5}"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981F70-CE63-4F09-A092-70B28313439E}"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ADE255-7FF8-4785-B197-F9F651FD02E8}"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5A7661-0830-4D16-BDBF-0EBB86389FCF}"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69224B6-D7FE-4A05-998C-2F91238F6138}"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8C3809-B1FC-4B0C-87F0-CD5B88922975}"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6112E6-6B8B-4B2B-945E-934DD9ACEC91}"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16C5D7-C6D9-40F6-A0CC-8EDC4A6A7522}"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F20BBF7-6506-4A51-A995-915D69324A09}"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5D7D89-617B-47DF-BC64-A598E71BD39B}"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5139BFF-2832-4866-9AA3-B369F0D3819C}"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F02D90-6F16-476D-B891-95C202FC02DE}"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011B42-1F0A-46C8-9510-8C9AFE29E740}"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1B8A3D-7049-4FC2-B651-81F21EF7880D}"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58CBC2-F9D5-47A8-A969-4BE1819C6FB1}"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538C15-AB68-4DE1-B9C2-BB32E242222C}"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65E752-D2CB-436E-8DED-B112BE6C1595}"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CAADA5-B9FA-4D7B-9A03-5A423698F33A}"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7B977D-010D-4404-B7E2-812D6E58CBD1}"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7483D2-AEE1-4308-988C-6BA6D459DEC2}"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E3A869-02C3-42BE-BCD6-CDB038C4CE19}"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7DF01C-8854-4D7C-B03D-9BD5445586A2}"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BCCB38-E751-48D3-A89E-7A96F5FE2377}"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6B3539-CC0E-4DFC-9270-85E14E17C1D3}"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8F12FC-0480-4ECF-A3C4-8D79922C5FA2}"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5F18D6-7EB8-4F1C-961E-3153AD57AF1B}"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27F1816-3D73-4C39-B640-6FA4472A7679}"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6EB8AB-BB75-415B-B64F-A5CC6C37DA0E}"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708530-B0C0-4B2C-9B7B-7A175CD01309}"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8C664A-BFFE-4C6D-949B-8DE33AB69644}"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15DBA6-A15B-4904-AAAF-73C7FD730A65}"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34684A-22B2-4130-8DCC-3E494D5512B3}"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B940F1-2849-48F2-92DE-8A09492D5881}"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F3E04F-D363-4D7F-907A-019FCE97756E}"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143654-6040-4791-93C0-D2C314AFE537}"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53D63D-D531-4254-9869-DBF4136ED94F}"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500B33-2794-4B49-BCA1-EEEE1F6B378D}"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66D719-56D2-43A4-8CC6-9C023DC709DA}"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798A9A-ABA5-4127-85A2-529EAF41F78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164ECC-C0C5-4956-A91F-482CD6F435ED}"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9756F0-CDC3-418A-B312-2051EC4AA6D3}"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7AEDE7-645F-4084-9DFA-3059EF0C87C1}"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F90D04-4C04-4F7D-BF6C-38C53C57A4AC}"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B3F394-65BD-43FC-B2C4-D50676E70455}"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99BADD-7CC3-4C09-B5FA-C173FB4117DF}"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850D89-C4F2-42D3-BD75-D398883DF09D}"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52F8D0-5B81-4C60-A087-0D4049E08744}"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ADD152-06BC-43AA-ADE7-8C272B3FE33E}"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FFDE83-94F9-4B6F-88AE-5572AF46D1CF}"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5E9002-8E71-48BF-8EFF-346E3362696D}"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BEFC91-D0C1-4995-A199-831E9F86C7C4}"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6E4064-31B2-4ECA-BAF6-D817BBC938EE}"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374003-F7F7-4148-9275-42EB5DE57EC9}"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BA538A-ECB6-4203-9BCD-3942D15770CE}"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DD045A6-59AE-4A7F-979B-970D2D73E0A2}"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79065D-0872-4347-8227-1EACC96F90D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41402D-D8E6-4B3D-981A-D819C5F0A2C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DCE1B9-379F-4F74-A77B-40D3287A283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B17DE4-952F-4100-974F-7EAE59E98AE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FF0548-E144-498D-9149-0F2B4357395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F1269E-DCF2-4524-88E2-64BBC6C9D25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23554AE-C3D9-49A1-9359-1EECBEC636B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4C9C17-6BF6-40D4-A745-F2935D98216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A462A2-6327-49EC-96BC-D19B24E96F1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F6F894-71C7-4C62-86C0-93DB271BC13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463809-D57B-4951-92BF-1FBC84B7ABD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42FF61-DF33-4A38-BB35-B2367AD6E80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E866EE-AC32-4BE2-8A6D-D09CD2A6593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9593A3-7D8E-4027-B236-56F8E824DA2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BD58CD-A1D1-4381-B9FA-38DF22B49CA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B86F98-D4CA-4231-B987-495321F01F3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800A3B-28FC-4403-9740-B462F881CF3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E7B6CF-7A72-4FAE-BBC1-AEB2CACF04D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0C35F4-5D92-4036-BA24-3B3E91A2AC2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4E8D96-4920-4823-8F9B-9A0C09B080E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10FBB7-65CE-40D7-AA4D-6D2A8743401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4716DC-8B41-4662-ADEF-92657105167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D7D0EF-82AB-4E1C-8BD9-500DB5C89E5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06EDAD-19F8-4159-91D7-C7EC9184F55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25976B-280F-4212-82FA-9F3527918A4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578B3F-B04F-432B-864F-123BCCAA8A1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02C40F-B091-40D0-AD71-FDAC8E7039F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8E345E-F3D6-4AFC-8027-7407E5F2AB9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70D478-91B9-4608-B668-960F477759E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841AAD-90D6-425A-AC11-6084C572391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8EC2C4-3784-4AB9-97E3-4241B3B2B5D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505B0B-C497-46EC-BCA8-D85F6F636D8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C4324C-0E7B-4AEA-A9DF-4D59BEE063D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68021A-F439-4C1B-9606-55C6C397BE1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8370F6-D7D8-4511-AB92-E2E6E53EA14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8BF7F0-8F17-42EE-97CF-9CF7BC7A7F7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6C913C-82D6-4361-A89F-F6C0E68F36E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372DF7-F403-4988-B92A-B6647250216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DF1FC4-6924-4C3B-889E-E0D40A2A503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BD8BCA-7504-4AF9-8D90-E9DE19C5626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8DE289-E702-488A-A65E-4FC6BDA4296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F6FFB6-CFF9-4F54-B791-02FFBCD3813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2951D1-5969-4300-B27D-E0271E88F8B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610664-D030-46D3-A768-8EEE8EFAB67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46674A-7D64-4C71-8D22-DFA9E772D7F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D1A78E-0CB9-4C7F-8217-E12D8814857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8EB864-5CD1-4B6E-B9AF-680BFC18C18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F182544-6AF6-4192-91DE-3BFACC68E30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CE47B0-2C33-4D14-A72E-1A1C0A40A49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B53A8B-DE8B-4CF3-91DA-3A4CAEE0FD1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DBCD0B-32D0-4F20-BFD2-EAA338CDB5D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ED2D4E-17AE-4787-B5BB-0A200E58E8F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DF1D6A-119B-40BC-9634-15EE83C41CE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32FB6A-962D-4D31-B215-B486E905AF0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C3620E-1DB9-489A-8A6B-F857C5FF141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2D4D08-C404-4748-9AD2-4F4E6C09CFB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1412C27-F19C-42DC-A44B-948C897A85A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DD5DAB-5E06-4D67-B508-1EA18DAD766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C690D5-F95F-4268-A8E2-D86A5ECCD69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19033A-6982-4572-B7B2-130FC2934AB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E00DDE-A34A-4563-A148-ED85FBEB4D7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FF9957-898F-4699-98A7-903F0671D44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C1859F-7692-4F06-AA76-2C23950096B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EB76BC-2967-4DFA-B1A2-67050BB83ED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190D23-858A-4B99-AF62-CAAD166E6FB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32FF96-AEA8-4F61-806B-C49A642FD18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729D3E-A67D-48BF-A2BD-B01A594C2E9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6884CC-9601-4D9B-AEB2-46B5B4381C7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704A36-9745-46F0-BFD5-37FC6D71A71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BB0F81-B885-4D39-9414-9295CD31049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280FB1-A31F-4C8B-B724-B677B3D5F55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5DC71C7-5556-4F52-9CA5-945E8366BA0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DFFD45-28DC-45DC-A06B-6C700438340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67F2E7-BA31-45B5-B6D8-125E0190756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A70B5D-B126-4ED9-B2F4-0A2B8F7DF67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65C5F5-B60A-4531-8E07-00AE1449D2A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271173-372E-41D5-9E59-A39DAC5EA66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8DF882-D316-400A-AAC9-021D1AF99B8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AF9FD5-FAFB-4811-9F56-C8C31B10ACC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278CF7-7725-435D-8277-BD6686CFC88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A370E3-6E18-4F49-99A3-9116197B6D9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E469E1-C3B6-4D1C-90A3-37FE5B48FA6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3C944A-E6DA-4871-BB3D-C82FF5A520C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26B0FC-2931-4D27-8340-3CFCEFCBFB3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0752DE-A431-475A-91BD-93A05D5AD1C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